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A1C9-CC1F-4A52-BD0F-6BBBCB449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AF0C-EB3C-4C3A-AEFC-A4C7C47F4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RIE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EC is an employers’ council of all labour-market participants – essentially, any organization that has an interest in an employer’s ability to hire and retain talent in this changing labour mar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ludes employers of all types, community organizations, business / industry and professional associations, all levels of government, labour,  educational institutions and individual lea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lieve that with an increasingly culturally diverse population in the GTA, the key to being labour-market ready in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 is based on being immigrant-read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our mandate is to help GTA employers become labour-market ready by helping them become immigrant rea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7369-D4CF-4435-906A-E31D099F2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9943-5A09-421C-81CD-C019B8E13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llenges of employer eng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contact (network development, create opportunities, leveraging existing part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over of employer contacts (institutional involv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sales cycle (success as a factor of need, timing and capa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ntacts within organizations that are not co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actors; i.e. recession (adjust mess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ng buy-in across all levels (champions, facilitating internal communications, pilot succ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priate and effective opportunities for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r fatigue (manage and coordinate as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A1F6-DF15-4294-9CA8-663BF53E5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B124-3E3E-40F1-8060-59E2BA5C7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228600" y="228600"/>
            <a:ext cx="8686800" cy="12952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NewTRIECcolourGreyBkg"/>
          <p:cNvPicPr/>
          <p:nvPr/>
        </p:nvPicPr>
        <p:blipFill>
          <a:blip r:embed="rId2"/>
          <a:stretch/>
        </p:blipFill>
        <p:spPr>
          <a:xfrm>
            <a:off x="380880" y="304920"/>
            <a:ext cx="1828800" cy="109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228600"/>
            <a:ext cx="8686800" cy="12952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NewTRIECcolourGreyBkg"/>
          <p:cNvPicPr/>
          <p:nvPr/>
        </p:nvPicPr>
        <p:blipFill>
          <a:blip r:embed="rId2"/>
          <a:stretch/>
        </p:blipFill>
        <p:spPr>
          <a:xfrm>
            <a:off x="380880" y="304920"/>
            <a:ext cx="1828800" cy="1096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52280" y="6400800"/>
            <a:ext cx="8686800" cy="276480"/>
          </a:xfrm>
          <a:prstGeom prst="rect">
            <a:avLst/>
          </a:prstGeom>
          <a:solidFill>
            <a:srgbClr val="5481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toneSans"/>
              </a:rPr>
              <a:t>New Realities. New Opportun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228600" y="1523880"/>
            <a:ext cx="8683560" cy="714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720880"/>
            <a:ext cx="8610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gaging employers on immigrant employment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4952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McIsaac, TRI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ronto LIPs Labour Marke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4 April 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Roadmap_sub-menu"/>
          <p:cNvPicPr/>
          <p:nvPr/>
        </p:nvPicPr>
        <p:blipFill>
          <a:blip r:embed="rId1"/>
          <a:srcRect l="0" t="10761" r="0" b="3585"/>
          <a:stretch/>
        </p:blipFill>
        <p:spPr>
          <a:xfrm>
            <a:off x="250920" y="2533680"/>
            <a:ext cx="8642160" cy="3638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2362320" y="1720800"/>
            <a:ext cx="5072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e Employer Road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www.hireimmigrants.ca/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Roadmap_content-screen"/>
          <p:cNvPicPr/>
          <p:nvPr/>
        </p:nvPicPr>
        <p:blipFill>
          <a:blip r:embed="rId1"/>
          <a:stretch/>
        </p:blipFill>
        <p:spPr>
          <a:xfrm>
            <a:off x="250920" y="1523880"/>
            <a:ext cx="8642160" cy="51055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49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r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 employers with strategies, resources and tools to eff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ru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ed immi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rui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ing channels to attract skilled immigrant job candi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ing international credentials; Identifying cultural biases and assumptions that can affect hiring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inclusive work environments to ensure equal participation; Identify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ystemic barri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can prevent full inclusion; Build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-cultural compet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dividual, organizational); Creating strategies for educating recruiters, hiring managers, and general employe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ONNECT_logo"/>
          <p:cNvPicPr/>
          <p:nvPr/>
        </p:nvPicPr>
        <p:blipFill>
          <a:blip r:embed="rId1"/>
          <a:stretch/>
        </p:blipFill>
        <p:spPr>
          <a:xfrm>
            <a:off x="5334120" y="1600200"/>
            <a:ext cx="3581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8640" y="274320"/>
            <a:ext cx="79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in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finding solutions for including highly skilled immigrants in Toronto Region labou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stakeholder collaboration: employers, universities, colleges, unions, community and immigrant organizations, occupational regulatory bodies, all three level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: A Greater Toronto Region that prospers by fully engaging the contributions of skilled immigr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286000" y="533520"/>
            <a:ext cx="65516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RIE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2057400"/>
            <a:ext cx="27432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WAR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reasing employer awareness of the value of immigrant skills, education and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awareness (print, TV ads, media / public rel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ategy development: identification of partnership opportunities / target groups, setting priori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505320" y="2057400"/>
            <a:ext cx="220968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ACCEP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Increasing employer acceptance of the need to explore solutions and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lationship development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943600" y="2057400"/>
            <a:ext cx="281952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Enabling employers to take action and engage in solutions to recruit and integrate skilled immigrants into their work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rticipation in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Spokespers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hamp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Informing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1066680" y="6019920"/>
            <a:ext cx="61722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over of employer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ntacts within organizations but not coord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buy-in across al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and effective opportunities fo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sales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r fat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5640" y="533160"/>
            <a:ext cx="65516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RIEC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642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s and collaborates with partners, creating opportunities for skilled immigrants to connect to the local labour market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individua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with key stakeholders, particularly employers, building their awareness and capacity to better integrate skilled immigrants into the workforce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organizational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with all levels of government, enhancing coordination and effecting more responsive policy and programs for skilled immigrant employment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systemi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14240" y="259920"/>
            <a:ext cx="6305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411444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ation-specific matches between a newly arrived skilled immigrant and their established Canadian counter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2004, more than 5000 matches have been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ly 80% of mentees surveyed have found full-time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ion of 50+ corporate partners to recruit men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TMP new logo"/>
          <p:cNvPicPr/>
          <p:nvPr/>
        </p:nvPicPr>
        <p:blipFill>
          <a:blip r:embed="rId1"/>
          <a:stretch/>
        </p:blipFill>
        <p:spPr>
          <a:xfrm>
            <a:off x="4495680" y="2743200"/>
            <a:ext cx="3581640" cy="838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304920" y="19051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s lack professional networks that help make linkages to employment opportun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8360" y="21337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s lack Canadian work experience often required by emplo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84360" y="3505320"/>
            <a:ext cx="8135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 internship program that provides first Canadian work experience, operated by Career Edg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2003 over 1000 interns have been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here are over 350 active hos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ly 80% of interns secure full-time positions in their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rcRect l="0" t="13406" r="83102" b="79408"/>
          <a:stretch/>
        </p:blipFill>
        <p:spPr>
          <a:xfrm>
            <a:off x="5562720" y="2590920"/>
            <a:ext cx="274140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RIEC_posters_pg2"/>
          <p:cNvPicPr/>
          <p:nvPr/>
        </p:nvPicPr>
        <p:blipFill>
          <a:blip r:embed="rId1"/>
          <a:stretch/>
        </p:blipFill>
        <p:spPr>
          <a:xfrm>
            <a:off x="304920" y="1676520"/>
            <a:ext cx="3429000" cy="480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Triec-Xerox_poster_smallsize"/>
          <p:cNvPicPr/>
          <p:nvPr/>
        </p:nvPicPr>
        <p:blipFill>
          <a:blip r:embed="rId2"/>
          <a:stretch/>
        </p:blipFill>
        <p:spPr>
          <a:xfrm>
            <a:off x="4114800" y="2076480"/>
            <a:ext cx="48499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Logo STeam Whistle corp_grn_bg_sm"/>
          <p:cNvPicPr/>
          <p:nvPr/>
        </p:nvPicPr>
        <p:blipFill>
          <a:blip r:embed="rId1"/>
          <a:stretch/>
        </p:blipFill>
        <p:spPr>
          <a:xfrm>
            <a:off x="324000" y="2349360"/>
            <a:ext cx="1396800" cy="151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St. Michaels logo small_nobck.psd"/>
          <p:cNvPicPr/>
          <p:nvPr/>
        </p:nvPicPr>
        <p:blipFill>
          <a:blip r:embed="rId2"/>
          <a:stretch/>
        </p:blipFill>
        <p:spPr>
          <a:xfrm>
            <a:off x="2209680" y="2895480"/>
            <a:ext cx="1779840" cy="1155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IS_awards"/>
          <p:cNvPicPr/>
          <p:nvPr/>
        </p:nvPicPr>
        <p:blipFill>
          <a:blip r:embed="rId3"/>
          <a:stretch/>
        </p:blipFill>
        <p:spPr>
          <a:xfrm>
            <a:off x="3124080" y="1600200"/>
            <a:ext cx="701640" cy="1030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038480" y="19051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igrant Success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8" descr="i3-DVR-Logo_nobck.psd"/>
          <p:cNvPicPr/>
          <p:nvPr/>
        </p:nvPicPr>
        <p:blipFill>
          <a:blip r:embed="rId4"/>
          <a:stretch/>
        </p:blipFill>
        <p:spPr>
          <a:xfrm>
            <a:off x="6629400" y="2819520"/>
            <a:ext cx="1336680" cy="66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Nytriclogotm_RGB.eps"/>
          <p:cNvPicPr/>
          <p:nvPr/>
        </p:nvPicPr>
        <p:blipFill>
          <a:blip r:embed="rId5"/>
          <a:stretch/>
        </p:blipFill>
        <p:spPr>
          <a:xfrm>
            <a:off x="4724280" y="3048120"/>
            <a:ext cx="1263600" cy="1130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EY_black_e_RGB.eps"/>
          <p:cNvPicPr/>
          <p:nvPr/>
        </p:nvPicPr>
        <p:blipFill>
          <a:blip r:embed="rId6"/>
          <a:stretch/>
        </p:blipFill>
        <p:spPr>
          <a:xfrm>
            <a:off x="3851280" y="5516640"/>
            <a:ext cx="1981080" cy="45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XeroxResearchCentre_RGB.eps"/>
          <p:cNvPicPr/>
          <p:nvPr/>
        </p:nvPicPr>
        <p:blipFill>
          <a:blip r:embed="rId7"/>
          <a:stretch/>
        </p:blipFill>
        <p:spPr>
          <a:xfrm>
            <a:off x="1332000" y="537372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H2MLOGO_RGB.eps"/>
          <p:cNvPicPr/>
          <p:nvPr/>
        </p:nvPicPr>
        <p:blipFill>
          <a:blip r:embed="rId8"/>
          <a:stretch/>
        </p:blipFill>
        <p:spPr>
          <a:xfrm>
            <a:off x="3124080" y="4572000"/>
            <a:ext cx="2171880" cy="61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Logo GBC 2007 logo_301"/>
          <p:cNvPicPr/>
          <p:nvPr/>
        </p:nvPicPr>
        <p:blipFill>
          <a:blip r:embed="rId9"/>
          <a:stretch/>
        </p:blipFill>
        <p:spPr>
          <a:xfrm>
            <a:off x="611280" y="4076640"/>
            <a:ext cx="1800000" cy="1349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FST_logo_RGB.eps"/>
          <p:cNvPicPr/>
          <p:nvPr/>
        </p:nvPicPr>
        <p:blipFill>
          <a:blip r:embed="rId10"/>
          <a:stretch/>
        </p:blipFill>
        <p:spPr>
          <a:xfrm>
            <a:off x="6705720" y="3809880"/>
            <a:ext cx="1636560" cy="1074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pg 10 TRCA-colour"/>
          <p:cNvPicPr/>
          <p:nvPr/>
        </p:nvPicPr>
        <p:blipFill>
          <a:blip r:embed="rId11"/>
          <a:stretch/>
        </p:blipFill>
        <p:spPr>
          <a:xfrm>
            <a:off x="6300720" y="5157720"/>
            <a:ext cx="2262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20:13:15Z</dcterms:created>
  <dc:creator>Stephen Wilson</dc:creator>
  <dc:description/>
  <dc:language>en-US</dc:language>
  <cp:lastModifiedBy>sguerra</cp:lastModifiedBy>
  <dcterms:modified xsi:type="dcterms:W3CDTF">2010-04-15T18:57:57Z</dcterms:modified>
  <cp:revision>62</cp:revision>
  <dc:subject/>
  <dc:title>Slide 1</dc:title>
</cp:coreProperties>
</file>